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C789-1972-4328-B534-38BEBAA1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6A57-FEAC-4FD6-87CB-E57569C7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7BFC-8EE8-4AE5-9A0C-6CA4F0A7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F624-A2E8-4571-AAEB-833503F2C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3AE5-5E9A-49CD-AF08-AA63E6AE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649-955F-4918-86D9-37B0F5215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4B95-52FE-42F8-9362-BEBF91B4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9280-5401-4C00-8EDF-E6D0647E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D0C2-CFAD-4881-9776-568AEDBA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EF01-8464-4EB0-AB57-FDA15D14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5ADC-80E5-49E9-9FD1-339C29AC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5833-7562-4D63-BF22-878ECCCD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FF11-E179-4C17-84CF-40A21AEEE7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Группа 18"/>
          <p:cNvGrpSpPr/>
          <p:nvPr/>
        </p:nvGrpSpPr>
        <p:grpSpPr>
          <a:xfrm>
            <a:off x="285840" y="0"/>
            <a:ext cx="8858160" cy="6858000"/>
            <a:chOff x="285840" y="0"/>
            <a:chExt cx="8858160" cy="6858000"/>
          </a:xfrm>
        </p:grpSpPr>
        <p:pic>
          <p:nvPicPr>
            <p:cNvPr id="42" name="Рисунок 19" descr="фон.png"/>
            <p:cNvPicPr/>
            <p:nvPr/>
          </p:nvPicPr>
          <p:blipFill>
            <a:blip r:embed="rId1">
              <a:lum bright="24000"/>
            </a:blip>
            <a:stretch/>
          </p:blipFill>
          <p:spPr>
            <a:xfrm>
              <a:off x="7269480" y="1904760"/>
              <a:ext cx="1874520" cy="495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Рисунок 20" descr="верх2.png"/>
            <p:cNvPicPr/>
            <p:nvPr/>
          </p:nvPicPr>
          <p:blipFill>
            <a:blip r:embed="rId2">
              <a:lum bright="10000"/>
            </a:blip>
            <a:srcRect l="0" t="0" r="0" b="50000"/>
            <a:stretch/>
          </p:blipFill>
          <p:spPr>
            <a:xfrm>
              <a:off x="285840" y="0"/>
              <a:ext cx="8858160" cy="18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Заголовок 1"/>
          <p:cNvSpPr/>
          <p:nvPr/>
        </p:nvSpPr>
        <p:spPr>
          <a:xfrm>
            <a:off x="838080" y="1066680"/>
            <a:ext cx="76186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ru-RU" sz="11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404040"/>
                </a:solidFill>
                <a:latin typeface="Calibri"/>
              </a:rPr>
              <a:t>Опрос общественного мнения о состоянии коррупции в Министерств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alibri"/>
              </a:rPr>
              <a:t>(результаты опроса за период с 07.2018 по 10.201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11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Users\Piternova\Documents\ОСНОВНЫЕ ДОКУМЕНТЫ\АНТИКОРРУПЦИОННЫЙ ВЕСТНИК\Разное\koruptsiya.png"/>
          <p:cNvPicPr/>
          <p:nvPr/>
        </p:nvPicPr>
        <p:blipFill>
          <a:blip r:embed="rId3"/>
          <a:stretch/>
        </p:blipFill>
        <p:spPr>
          <a:xfrm>
            <a:off x="3124080" y="3962520"/>
            <a:ext cx="1814760" cy="1739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Piternova\Documents\ОСНОВНЫЕ ДОКУМЕНТЫ\АНТИКОРРУПЦИОННЫЙ ВЕСТНИК\Разное\neznanie_zakonov.jpg"/>
          <p:cNvPicPr/>
          <p:nvPr/>
        </p:nvPicPr>
        <p:blipFill>
          <a:blip r:embed="rId4"/>
          <a:stretch/>
        </p:blipFill>
        <p:spPr>
          <a:xfrm>
            <a:off x="228600" y="3886200"/>
            <a:ext cx="2614680" cy="1728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Users\Piternova\Documents\ОСНОВНЫЕ ДОКУМЕНТЫ\АНТИКОРРУПЦИОННЫЙ ВЕСТНИК\Разное\refuz-mita.jpg"/>
          <p:cNvPicPr/>
          <p:nvPr/>
        </p:nvPicPr>
        <p:blipFill>
          <a:blip r:embed="rId5"/>
          <a:stretch/>
        </p:blipFill>
        <p:spPr>
          <a:xfrm>
            <a:off x="5334120" y="3657600"/>
            <a:ext cx="2604960" cy="18939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" descr="Logo-green.png"/>
          <p:cNvPicPr/>
          <p:nvPr/>
        </p:nvPicPr>
        <p:blipFill>
          <a:blip r:embed="rId6"/>
          <a:srcRect l="0" t="59370" r="50395" b="0"/>
          <a:stretch/>
        </p:blipFill>
        <p:spPr>
          <a:xfrm>
            <a:off x="108000" y="189000"/>
            <a:ext cx="1189080" cy="123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561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Существует ли коррупция в Министерств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3" descr="Logo-green.png"/>
          <p:cNvPicPr/>
          <p:nvPr/>
        </p:nvPicPr>
        <p:blipFill>
          <a:blip r:embed="rId1"/>
          <a:srcRect l="0" t="59370" r="50395" b="0"/>
          <a:stretch/>
        </p:blipFill>
        <p:spPr>
          <a:xfrm>
            <a:off x="108000" y="189000"/>
            <a:ext cx="1295280" cy="123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Диаграмма 3"/>
          <p:cNvGraphicFramePr/>
          <p:nvPr/>
        </p:nvGraphicFramePr>
        <p:xfrm>
          <a:off x="676440" y="1938240"/>
          <a:ext cx="7691400" cy="41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2" name="Диаграмма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6440" y="1938240"/>
                    <a:ext cx="769140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561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В какой сфере деятельности Министерства может быть более всего распространена коррупция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Logo-green.png"/>
          <p:cNvPicPr/>
          <p:nvPr/>
        </p:nvPicPr>
        <p:blipFill>
          <a:blip r:embed="rId1"/>
          <a:srcRect l="0" t="59370" r="50395" b="0"/>
          <a:stretch/>
        </p:blipFill>
        <p:spPr>
          <a:xfrm>
            <a:off x="108000" y="189000"/>
            <a:ext cx="1295280" cy="123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Диаграмма 3"/>
          <p:cNvGraphicFramePr/>
          <p:nvPr/>
        </p:nvGraphicFramePr>
        <p:xfrm>
          <a:off x="676440" y="1938240"/>
          <a:ext cx="7691400" cy="41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6" name="Диаграмма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6440" y="1938240"/>
                    <a:ext cx="769140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561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Сталкивались ли вы со случаями, когда должностные лица Министерства требовали за решение вопроса материального вознаграждения или выполнения услуг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3" descr="Logo-green.png"/>
          <p:cNvPicPr/>
          <p:nvPr/>
        </p:nvPicPr>
        <p:blipFill>
          <a:blip r:embed="rId1"/>
          <a:srcRect l="0" t="59370" r="50395" b="0"/>
          <a:stretch/>
        </p:blipFill>
        <p:spPr>
          <a:xfrm>
            <a:off x="108000" y="189000"/>
            <a:ext cx="1295280" cy="123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Диаграмма 3"/>
          <p:cNvGraphicFramePr/>
          <p:nvPr/>
        </p:nvGraphicFramePr>
        <p:xfrm>
          <a:off x="676440" y="1938240"/>
          <a:ext cx="7691400" cy="41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0" name="Диаграмма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6440" y="1938240"/>
                    <a:ext cx="769140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561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Способствовали ли Вы сами решению интересующего вопрос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Logo-green.png"/>
          <p:cNvPicPr/>
          <p:nvPr/>
        </p:nvPicPr>
        <p:blipFill>
          <a:blip r:embed="rId1"/>
          <a:srcRect l="0" t="59370" r="50395" b="0"/>
          <a:stretch/>
        </p:blipFill>
        <p:spPr>
          <a:xfrm>
            <a:off x="108000" y="189000"/>
            <a:ext cx="1295280" cy="123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Диаграмма 3"/>
          <p:cNvGraphicFramePr/>
          <p:nvPr/>
        </p:nvGraphicFramePr>
        <p:xfrm>
          <a:off x="676440" y="1938240"/>
          <a:ext cx="7691400" cy="41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Диаграмма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6440" y="1938240"/>
                    <a:ext cx="769140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561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Если Вам приходилось решать вопрос путем материального вознаграждения, то в каком размер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3" descr="Logo-green.png"/>
          <p:cNvPicPr/>
          <p:nvPr/>
        </p:nvPicPr>
        <p:blipFill>
          <a:blip r:embed="rId1"/>
          <a:srcRect l="0" t="59370" r="50395" b="0"/>
          <a:stretch/>
        </p:blipFill>
        <p:spPr>
          <a:xfrm>
            <a:off x="108000" y="189000"/>
            <a:ext cx="1295280" cy="123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Диаграмма 3"/>
          <p:cNvGraphicFramePr/>
          <p:nvPr/>
        </p:nvGraphicFramePr>
        <p:xfrm>
          <a:off x="458640" y="1914480"/>
          <a:ext cx="8518680" cy="41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8" name="Диаграмма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8640" y="1914480"/>
                    <a:ext cx="851868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561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Сообщили бы Вы о факте коррупции среди должностных лиц Министерств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3" descr="Logo-green.png"/>
          <p:cNvPicPr/>
          <p:nvPr/>
        </p:nvPicPr>
        <p:blipFill>
          <a:blip r:embed="rId1"/>
          <a:srcRect l="0" t="59370" r="50395" b="0"/>
          <a:stretch/>
        </p:blipFill>
        <p:spPr>
          <a:xfrm>
            <a:off x="108000" y="189000"/>
            <a:ext cx="1295280" cy="123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Диаграмма 3"/>
          <p:cNvGraphicFramePr/>
          <p:nvPr/>
        </p:nvGraphicFramePr>
        <p:xfrm>
          <a:off x="676440" y="1938240"/>
          <a:ext cx="7691400" cy="41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2" name="Диаграмма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6440" y="1938240"/>
                    <a:ext cx="769140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1640" y="260280"/>
            <a:ext cx="75610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Calibri"/>
              </a:rPr>
              <a:t>Что, по вашему мнению, могло бы являться препятствием коррупции в Министерств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3" descr="Logo-green.png"/>
          <p:cNvPicPr/>
          <p:nvPr/>
        </p:nvPicPr>
        <p:blipFill>
          <a:blip r:embed="rId1"/>
          <a:srcRect l="0" t="59370" r="50395" b="0"/>
          <a:stretch/>
        </p:blipFill>
        <p:spPr>
          <a:xfrm>
            <a:off x="108000" y="189000"/>
            <a:ext cx="1295280" cy="1238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Диаграмма 3"/>
          <p:cNvGraphicFramePr/>
          <p:nvPr/>
        </p:nvGraphicFramePr>
        <p:xfrm>
          <a:off x="676440" y="1938240"/>
          <a:ext cx="7691400" cy="41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6" name="Диаграмма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6440" y="1938240"/>
                    <a:ext cx="769140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4T09:08:10Z</dcterms:created>
  <dc:creator>Ableeva</dc:creator>
  <dc:description/>
  <dc:language>en-US</dc:language>
  <cp:lastModifiedBy>406-User1</cp:lastModifiedBy>
  <dcterms:modified xsi:type="dcterms:W3CDTF">2020-12-17T13:13:05Z</dcterms:modified>
  <cp:revision>32</cp:revision>
  <dc:subject/>
  <dc:title>Слайд 1</dc:title>
</cp:coreProperties>
</file>