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9BF-01BE-4015-96E5-2202F9F6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25F-B0FF-4091-8436-9F5F3A50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641-6A97-458D-A9CF-F1D0D683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803-05AA-4A29-BCBD-FFAA0068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5CB-6BEA-407B-BD75-2D4013B6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9E2-74FA-4923-AD3B-F8C0D8FF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CBB-FF2A-4425-BF6F-67E3C7BC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9E7-08DF-4DA0-BF71-61626224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8FD-875F-4285-A879-9F7DC8E9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416-538A-40B9-B802-94A53336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3F0-D305-4363-B106-ED2A6D2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0D4-5D41-4B03-B134-4DAD84D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2D31-90E3-42DF-BCCD-C479FDC99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8"/>
          <p:cNvGrpSpPr/>
          <p:nvPr/>
        </p:nvGrpSpPr>
        <p:grpSpPr>
          <a:xfrm>
            <a:off x="285840" y="0"/>
            <a:ext cx="8858160" cy="6858000"/>
            <a:chOff x="285840" y="0"/>
            <a:chExt cx="8858160" cy="6858000"/>
          </a:xfrm>
        </p:grpSpPr>
        <p:pic>
          <p:nvPicPr>
            <p:cNvPr id="42" name="Рисунок 19" descr="фон.png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7269480" y="1904760"/>
              <a:ext cx="1874520" cy="49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20" descr="верх2.png"/>
            <p:cNvPicPr/>
            <p:nvPr/>
          </p:nvPicPr>
          <p:blipFill>
            <a:blip r:embed="rId2">
              <a:lum bright="10000"/>
            </a:blip>
            <a:srcRect l="0" t="0" r="0" b="50000"/>
            <a:stretch/>
          </p:blipFill>
          <p:spPr>
            <a:xfrm>
              <a:off x="285840" y="0"/>
              <a:ext cx="8858160" cy="1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Заголовок 1"/>
          <p:cNvSpPr/>
          <p:nvPr/>
        </p:nvSpPr>
        <p:spPr>
          <a:xfrm>
            <a:off x="838080" y="1066680"/>
            <a:ext cx="7618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Опрос общественного мнения о состоянии коррупции в Министер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(результаты опроса за период с 07.2018 по 10.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Piternova\Documents\ОСНОВНЫЕ ДОКУМЕНТЫ\АНТИКОРРУПЦИОННЫЙ ВЕСТНИК\Разное\koruptsiya.png"/>
          <p:cNvPicPr/>
          <p:nvPr/>
        </p:nvPicPr>
        <p:blipFill>
          <a:blip r:embed="rId3"/>
          <a:stretch/>
        </p:blipFill>
        <p:spPr>
          <a:xfrm>
            <a:off x="3124080" y="3962520"/>
            <a:ext cx="1814760" cy="173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Piternova\Documents\ОСНОВНЫЕ ДОКУМЕНТЫ\АНТИКОРРУПЦИОННЫЙ ВЕСТНИК\Разное\neznanie_zakonov.jpg"/>
          <p:cNvPicPr/>
          <p:nvPr/>
        </p:nvPicPr>
        <p:blipFill>
          <a:blip r:embed="rId4"/>
          <a:stretch/>
        </p:blipFill>
        <p:spPr>
          <a:xfrm>
            <a:off x="228600" y="3886200"/>
            <a:ext cx="2614680" cy="172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Piternova\Documents\ОСНОВНЫЕ ДОКУМЕНТЫ\АНТИКОРРУПЦИОННЫЙ ВЕСТНИК\Разное\refuz-mita.jpg"/>
          <p:cNvPicPr/>
          <p:nvPr/>
        </p:nvPicPr>
        <p:blipFill>
          <a:blip r:embed="rId5"/>
          <a:stretch/>
        </p:blipFill>
        <p:spPr>
          <a:xfrm>
            <a:off x="5334120" y="3657600"/>
            <a:ext cx="2604960" cy="1893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Logo-green.png"/>
          <p:cNvPicPr/>
          <p:nvPr/>
        </p:nvPicPr>
        <p:blipFill>
          <a:blip r:embed="rId6"/>
          <a:srcRect l="0" t="59370" r="50395" b="0"/>
          <a:stretch/>
        </p:blipFill>
        <p:spPr>
          <a:xfrm>
            <a:off x="108000" y="189000"/>
            <a:ext cx="118908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уществует ли коррупция в Министерств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В какой сфере деятельности Министерства может быть более всего распространена корруп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талкивались ли вы со случаями, когда должностные лица Министерства требовали за решение вопроса материального вознаграждения или выполнения услуг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пособствовали ли Вы сами решению интересующего вопрос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Если Вам приходилось решать вопрос путем материального вознаграждения, то в каком размер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Диаграмма 3"/>
          <p:cNvGraphicFramePr/>
          <p:nvPr/>
        </p:nvGraphicFramePr>
        <p:xfrm>
          <a:off x="458640" y="1914480"/>
          <a:ext cx="851868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640" y="1914480"/>
                    <a:ext cx="85186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ообщили бы Вы о факте коррупции среди должностных лиц Министерст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Что, по вашему мнению, могло бы являться препятствием коррупции в Министерств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4T09:08:10Z</dcterms:created>
  <dc:creator>Ableeva</dc:creator>
  <dc:description/>
  <dc:language>en-US</dc:language>
  <cp:lastModifiedBy>406-User1</cp:lastModifiedBy>
  <dcterms:modified xsi:type="dcterms:W3CDTF">2020-12-17T13:13:05Z</dcterms:modified>
  <cp:revision>32</cp:revision>
  <dc:subject/>
  <dc:title>Слайд 1</dc:title>
</cp:coreProperties>
</file>