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A87-1BA3-4FF5-932B-A340480D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2C1-36BD-46F2-AF33-A1893D9D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9E4-F106-43E8-BF6E-80C199DD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D0A-ED59-444A-9AE0-F3439B2E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762-0640-419A-80C5-F71C1EA4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303-AA62-418E-9E63-90688286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077-8271-4FD8-8B06-14567164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2A0-2C8C-4FA4-8590-700929D5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4CC-1EEE-44C1-A086-39E1E8B5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882-10BC-44F6-9980-773C7E4D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653-4F69-46A1-BEBF-5F41A647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D1D-090B-4B1B-B5FD-6C8E3632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DF64-8018-4D92-BC18-9CC5774929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8"/>
          <p:cNvGrpSpPr/>
          <p:nvPr/>
        </p:nvGrpSpPr>
        <p:grpSpPr>
          <a:xfrm>
            <a:off x="285840" y="0"/>
            <a:ext cx="8858160" cy="6858000"/>
            <a:chOff x="285840" y="0"/>
            <a:chExt cx="8858160" cy="6858000"/>
          </a:xfrm>
        </p:grpSpPr>
        <p:pic>
          <p:nvPicPr>
            <p:cNvPr id="42" name="Рисунок 19" descr="фон.png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7269480" y="1904760"/>
              <a:ext cx="1874520" cy="49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20" descr="верх2.png"/>
            <p:cNvPicPr/>
            <p:nvPr/>
          </p:nvPicPr>
          <p:blipFill>
            <a:blip r:embed="rId2">
              <a:lum bright="10000"/>
            </a:blip>
            <a:srcRect l="0" t="0" r="0" b="50000"/>
            <a:stretch/>
          </p:blipFill>
          <p:spPr>
            <a:xfrm>
              <a:off x="285840" y="0"/>
              <a:ext cx="8858160" cy="1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Заголовок 1"/>
          <p:cNvSpPr/>
          <p:nvPr/>
        </p:nvSpPr>
        <p:spPr>
          <a:xfrm>
            <a:off x="838080" y="1066680"/>
            <a:ext cx="7618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Опрос общественного мнения о состоянии коррупции в Министер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(результаты опроса за период с 09.2019 по 12.20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Piternova\Documents\ОСНОВНЫЕ ДОКУМЕНТЫ\АНТИКОРРУПЦИОННЫЙ ВЕСТНИК\Разное\koruptsiya.png"/>
          <p:cNvPicPr/>
          <p:nvPr/>
        </p:nvPicPr>
        <p:blipFill>
          <a:blip r:embed="rId3"/>
          <a:stretch/>
        </p:blipFill>
        <p:spPr>
          <a:xfrm>
            <a:off x="3124080" y="3962520"/>
            <a:ext cx="1814760" cy="173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Piternova\Documents\ОСНОВНЫЕ ДОКУМЕНТЫ\АНТИКОРРУПЦИОННЫЙ ВЕСТНИК\Разное\neznanie_zakonov.jpg"/>
          <p:cNvPicPr/>
          <p:nvPr/>
        </p:nvPicPr>
        <p:blipFill>
          <a:blip r:embed="rId4"/>
          <a:stretch/>
        </p:blipFill>
        <p:spPr>
          <a:xfrm>
            <a:off x="228600" y="3886200"/>
            <a:ext cx="2614680" cy="172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Piternova\Documents\ОСНОВНЫЕ ДОКУМЕНТЫ\АНТИКОРРУПЦИОННЫЙ ВЕСТНИК\Разное\refuz-mita.jpg"/>
          <p:cNvPicPr/>
          <p:nvPr/>
        </p:nvPicPr>
        <p:blipFill>
          <a:blip r:embed="rId5"/>
          <a:stretch/>
        </p:blipFill>
        <p:spPr>
          <a:xfrm>
            <a:off x="5334120" y="3657600"/>
            <a:ext cx="2604960" cy="1893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Logo-green.png"/>
          <p:cNvPicPr/>
          <p:nvPr/>
        </p:nvPicPr>
        <p:blipFill>
          <a:blip r:embed="rId6"/>
          <a:srcRect l="0" t="59370" r="50395" b="0"/>
          <a:stretch/>
        </p:blipFill>
        <p:spPr>
          <a:xfrm>
            <a:off x="108000" y="189000"/>
            <a:ext cx="118908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уществует ли коррупция в Министерств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Диаграмма 3"/>
          <p:cNvGraphicFramePr/>
          <p:nvPr/>
        </p:nvGraphicFramePr>
        <p:xfrm>
          <a:off x="681120" y="1770120"/>
          <a:ext cx="7923240" cy="4260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770120"/>
                    <a:ext cx="792324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В какой сфере деятельности Министерства может быть более всего распространена корруп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Диаграмма 3"/>
          <p:cNvGraphicFramePr/>
          <p:nvPr/>
        </p:nvGraphicFramePr>
        <p:xfrm>
          <a:off x="684360" y="1940040"/>
          <a:ext cx="7785000" cy="42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40040"/>
                    <a:ext cx="77850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талкивались ли вы со случаями, когда должностные лица Министерства требовали за решение вопроса материального вознаграждения или выполнения услуг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Диаграмма 3"/>
          <p:cNvGraphicFramePr/>
          <p:nvPr/>
        </p:nvGraphicFramePr>
        <p:xfrm>
          <a:off x="681120" y="2168640"/>
          <a:ext cx="7723080" cy="38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2168640"/>
                    <a:ext cx="77230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пособствовали ли Вы сами решению интересующего вопрос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Диаграмма 3"/>
          <p:cNvGraphicFramePr/>
          <p:nvPr/>
        </p:nvGraphicFramePr>
        <p:xfrm>
          <a:off x="681120" y="1935000"/>
          <a:ext cx="7966080" cy="4096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935000"/>
                    <a:ext cx="7966080" cy="40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Если Вам приходилось решать вопрос путем материального вознаграждения, то в каком размер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Диаграмма 3"/>
          <p:cNvGraphicFramePr/>
          <p:nvPr/>
        </p:nvGraphicFramePr>
        <p:xfrm>
          <a:off x="461880" y="1911240"/>
          <a:ext cx="8099640" cy="4083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880" y="1911240"/>
                    <a:ext cx="80996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ообщили бы Вы о факте коррупции среди должностных лиц Министерст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Диаграмма 3"/>
          <p:cNvGraphicFramePr/>
          <p:nvPr/>
        </p:nvGraphicFramePr>
        <p:xfrm>
          <a:off x="681120" y="1935000"/>
          <a:ext cx="7821360" cy="4096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935000"/>
                    <a:ext cx="7821360" cy="40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Что, по вашему мнению, могло бы являться препятствием коррупции в Министерств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Диаграмма 3"/>
          <p:cNvGraphicFramePr/>
          <p:nvPr/>
        </p:nvGraphicFramePr>
        <p:xfrm>
          <a:off x="447840" y="1935000"/>
          <a:ext cx="8394480" cy="430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7840" y="1935000"/>
                    <a:ext cx="839448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4T09:08:10Z</dcterms:created>
  <dc:creator>Ableeva</dc:creator>
  <dc:description/>
  <dc:language>en-US</dc:language>
  <cp:lastModifiedBy>406-User1</cp:lastModifiedBy>
  <cp:lastPrinted>2019-12-13T10:41:18Z</cp:lastPrinted>
  <dcterms:modified xsi:type="dcterms:W3CDTF">2019-12-18T08:51:37Z</dcterms:modified>
  <cp:revision>39</cp:revision>
  <dc:subject/>
  <dc:title>Слайд 1</dc:title>
</cp:coreProperties>
</file>